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37.png" ContentType="image/png"/>
  <Override PartName="/ppt/media/image46.png" ContentType="image/png"/>
  <Override PartName="/ppt/media/image132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F43-ABD2-4807-BD8D-2C31200E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C14-EAE7-4F92-9EE9-2A4D30DD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F22-88D9-4CD5-9FFF-B7E59FED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46E-59BE-41B0-95CA-0E61E134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C7F-09BA-4ACF-8723-B06B176C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A9C-C1E2-4812-9245-AA4138E3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B3A-FC67-4D10-886C-CE08D775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8B2-F82B-4964-8E0B-056BDB18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47F-20B1-4C2B-A78D-B430602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A63-8DF4-4DEC-845D-877ED74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3EA-F40E-4483-A720-6B748E3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86B-6520-4957-A0E5-D8A7D7A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DF1B-1894-4911-8294-1AA67563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880" y="1389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81440"/>
            <a:ext cx="8077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image" Target="../media/image1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image" Target="../media/image126.png"/><Relationship Id="rId7" Type="http://schemas.openxmlformats.org/officeDocument/2006/relationships/image" Target="../media/image127.png"/><Relationship Id="rId8" Type="http://schemas.openxmlformats.org/officeDocument/2006/relationships/image" Target="../media/image128.png"/><Relationship Id="rId9" Type="http://schemas.openxmlformats.org/officeDocument/2006/relationships/image" Target="../media/image129.png"/><Relationship Id="rId10" Type="http://schemas.openxmlformats.org/officeDocument/2006/relationships/image" Target="../media/image13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8000" y="1371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59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52560" y="2438280"/>
            <a:ext cx="952560" cy="819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19160" y="3505320"/>
            <a:ext cx="1876320" cy="1143000"/>
            <a:chOff x="1019160" y="3505320"/>
            <a:chExt cx="1876320" cy="11430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019160" y="3505320"/>
              <a:ext cx="18763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971720" y="4362480"/>
              <a:ext cx="49536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3962520" y="2209680"/>
            <a:ext cx="0" cy="251460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9440" y="167652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372280" y="2514600"/>
            <a:ext cx="1257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4120" y="3276720"/>
            <a:ext cx="2181240" cy="1038240"/>
            <a:chOff x="5334120" y="3276720"/>
            <a:chExt cx="2181240" cy="1038240"/>
          </a:xfrm>
        </p:grpSpPr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5334120" y="3276720"/>
              <a:ext cx="21812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6600960" y="4038840"/>
              <a:ext cx="49536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403200" y="2514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26240" y="2514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9440" y="1670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247840"/>
            <a:ext cx="0" cy="31244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52760"/>
            <a:ext cx="15624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3238560"/>
            <a:ext cx="332424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90920" y="392436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600280" y="4629240"/>
            <a:ext cx="66672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1320" y="25527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540400" y="2400480"/>
            <a:ext cx="148572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645160" y="3238560"/>
            <a:ext cx="2828880" cy="60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99240" y="24004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886040"/>
            <a:ext cx="8534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Using the Product Property of Square Roo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962440"/>
            <a:ext cx="685800" cy="39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85760" y="3657600"/>
            <a:ext cx="192420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0640" y="4476600"/>
            <a:ext cx="1152720" cy="400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776240" y="5181480"/>
            <a:ext cx="914400" cy="4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22840" y="365760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25360" y="51814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Using the Product Property of Square Roo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847960"/>
            <a:ext cx="106704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3610080"/>
            <a:ext cx="255276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52480" y="5286240"/>
            <a:ext cx="1305000" cy="42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23920" y="35812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752480" y="4419720"/>
            <a:ext cx="1952640" cy="5047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817440" y="5334120"/>
            <a:ext cx="4678200" cy="459720"/>
            <a:chOff x="3817440" y="5334120"/>
            <a:chExt cx="4678200" cy="459720"/>
          </a:xfrm>
        </p:grpSpPr>
        <p:sp>
          <p:nvSpPr>
            <p:cNvPr id="143" name=""/>
            <p:cNvSpPr/>
            <p:nvPr/>
          </p:nvSpPr>
          <p:spPr>
            <a:xfrm>
              <a:off x="3817440" y="5334120"/>
              <a:ext cx="46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Since x is nonnegative,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7143840" y="5334120"/>
              <a:ext cx="116208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857160" cy="39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22840" y="3657600"/>
            <a:ext cx="53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25360" y="51814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90720" y="3686040"/>
            <a:ext cx="2181240" cy="50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814400" y="4486320"/>
            <a:ext cx="1266840" cy="39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828800" y="5181480"/>
            <a:ext cx="8571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1047600" cy="50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23920" y="44593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23920" y="35812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23960" cy="505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762200" y="4429080"/>
            <a:ext cx="195264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28800" y="5286240"/>
            <a:ext cx="1162080" cy="4287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817440" y="5295960"/>
            <a:ext cx="4678200" cy="497880"/>
            <a:chOff x="3817440" y="5295960"/>
            <a:chExt cx="4678200" cy="497880"/>
          </a:xfrm>
        </p:grpSpPr>
        <p:sp>
          <p:nvSpPr>
            <p:cNvPr id="163" name=""/>
            <p:cNvSpPr/>
            <p:nvPr/>
          </p:nvSpPr>
          <p:spPr>
            <a:xfrm>
              <a:off x="3817440" y="5334120"/>
              <a:ext cx="46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Since y is nonnegative,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7153200" y="5295960"/>
              <a:ext cx="1152720" cy="4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8604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57440" y="5162400"/>
            <a:ext cx="1276200" cy="400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25520" y="43434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4440" y="3444840"/>
            <a:ext cx="48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3500280"/>
            <a:ext cx="3324240" cy="6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647720" y="4419720"/>
            <a:ext cx="1828800" cy="457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026960" y="5105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52440" y="2023920"/>
            <a:ext cx="8534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Using the Quotient Property of Square Roo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480" y="190512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62080" y="2914560"/>
            <a:ext cx="51444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352520" cy="84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990720" y="5295960"/>
            <a:ext cx="761760" cy="799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57400" y="4114800"/>
            <a:ext cx="26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9920" y="54100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971800"/>
            <a:ext cx="0" cy="335268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553000" y="2743200"/>
            <a:ext cx="847800" cy="876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638600" y="3772080"/>
            <a:ext cx="1886040" cy="876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539760" y="3886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481720" y="4724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5486400" y="5743440"/>
            <a:ext cx="657360" cy="733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37240" y="468000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39760" y="58672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5400" y="28195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0480" y="28195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219320"/>
            <a:ext cx="807696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perfect square in each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5  81  27  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6  99  8 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6  84  12 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5  216  196  7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3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4510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014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3767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23960" cy="81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7760" y="3581280"/>
            <a:ext cx="1533600" cy="81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04840" y="4495680"/>
            <a:ext cx="781200" cy="85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100160" y="5667480"/>
            <a:ext cx="542880" cy="73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83600" y="3733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3600" y="57913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37508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666880"/>
            <a:ext cx="0" cy="373392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600440" y="3581280"/>
            <a:ext cx="172404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334120" y="4819680"/>
            <a:ext cx="733320" cy="743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526080" y="342900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28600" y="49100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514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31040" y="2514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181480" y="2514600"/>
            <a:ext cx="733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704880" cy="876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1695240" cy="914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1809720" cy="1181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981080" y="5695920"/>
            <a:ext cx="70488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0292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64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31720" y="5754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989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Using the Product and Quotient Properties Toge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86372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290520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62120" y="394344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29520" y="40575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85800" y="5124600"/>
            <a:ext cx="1047600" cy="876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29880" y="53532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108 as 36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095800" y="3867120"/>
            <a:ext cx="1000080" cy="800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105520" y="5276880"/>
            <a:ext cx="618840" cy="743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553080" y="40194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535320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989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Using the Product and Quotient Properties Toge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5480" y="186372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5800" y="2857680"/>
            <a:ext cx="857160" cy="80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85800" y="3848040"/>
            <a:ext cx="781200" cy="838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905840" y="39243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4915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588636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33520" y="4772160"/>
            <a:ext cx="1076040" cy="885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09480" y="5734080"/>
            <a:ext cx="914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5480" y="173340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647800"/>
            <a:ext cx="73332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81800" y="40575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81440" y="54673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20 as 4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990720" y="3848040"/>
            <a:ext cx="695160" cy="857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80920" y="516240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553080" y="405756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546732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952880" y="3867120"/>
            <a:ext cx="895320" cy="857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4905360" y="5276880"/>
            <a:ext cx="6573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5480" y="173340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2724120"/>
            <a:ext cx="1114200" cy="952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981800" y="414828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1482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546732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62120" y="3905280"/>
            <a:ext cx="1038240" cy="10285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762120" y="5295960"/>
            <a:ext cx="1143000" cy="10857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972800" y="5467320"/>
            <a:ext cx="2664720" cy="485640"/>
            <a:chOff x="1972800" y="5467320"/>
            <a:chExt cx="2664720" cy="485640"/>
          </a:xfrm>
        </p:grpSpPr>
        <p:sp>
          <p:nvSpPr>
            <p:cNvPr id="258" name=""/>
            <p:cNvSpPr/>
            <p:nvPr/>
          </p:nvSpPr>
          <p:spPr>
            <a:xfrm>
              <a:off x="1972800" y="5467320"/>
              <a:ext cx="26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Write     as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2838240" y="5510160"/>
              <a:ext cx="314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3581280" y="5514840"/>
              <a:ext cx="8002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5238720" y="3881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5234040" y="529596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480" y="172404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00200" y="2714760"/>
            <a:ext cx="838080" cy="9522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0240" y="4010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Quotien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522936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00200" y="3857760"/>
            <a:ext cx="771480" cy="1038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752480" y="5076720"/>
            <a:ext cx="428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52388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quadrangle on a college campus is a square with sides of 250 feet. If a student takes a shortcut by walking diagonally across the quadrangle, how far does he walk? Give the answer as a radical expression in simplest form. Then estimate the length to the nearest tenth of a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513720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istance from one corner of the square to the opposite one is the hypotenuse of a right triangle. Use the Pythagorean Theorem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59720" y="1798560"/>
            <a:ext cx="2079360" cy="2456280"/>
            <a:chOff x="6759720" y="1798560"/>
            <a:chExt cx="2079360" cy="2456280"/>
          </a:xfrm>
        </p:grpSpPr>
        <p:grpSp>
          <p:nvGrpSpPr>
            <p:cNvPr id="274" name=""/>
            <p:cNvGrpSpPr/>
            <p:nvPr/>
          </p:nvGrpSpPr>
          <p:grpSpPr>
            <a:xfrm>
              <a:off x="6759720" y="2244600"/>
              <a:ext cx="2079360" cy="2010240"/>
              <a:chOff x="6759720" y="2244600"/>
              <a:chExt cx="2079360" cy="2010240"/>
            </a:xfrm>
          </p:grpSpPr>
          <p:sp>
            <p:nvSpPr>
              <p:cNvPr id="275" name=""/>
              <p:cNvSpPr/>
              <p:nvPr/>
            </p:nvSpPr>
            <p:spPr>
              <a:xfrm>
                <a:off x="7162920" y="2244600"/>
                <a:ext cx="1676160" cy="1600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38880" y="2320560"/>
                <a:ext cx="144792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57640" y="3855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81880" y="40446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162560" y="40255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200000">
                <a:off x="6656040" y="280584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6935400" y="2310480"/>
                <a:ext cx="12600" cy="37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71400" y="3265920"/>
                <a:ext cx="360" cy="53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147080" y="179856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dran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278136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743120" y="3581280"/>
            <a:ext cx="3029040" cy="457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704960" y="4343400"/>
            <a:ext cx="1800360" cy="45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714680" y="5105520"/>
            <a:ext cx="2400120" cy="533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242680" y="1944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42680" y="263052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250 for a and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44480" y="3544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496872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125,000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20732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676520" y="2038320"/>
            <a:ext cx="2295360" cy="399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657440" y="2800440"/>
            <a:ext cx="1771560" cy="476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676520" y="3713040"/>
            <a:ext cx="1276200" cy="390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676520" y="4667400"/>
            <a:ext cx="1371600" cy="2854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041800" y="37339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70520" y="45356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a calculator and round 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91920" y="5450040"/>
            <a:ext cx="6325560" cy="459720"/>
            <a:chOff x="1591920" y="5450040"/>
            <a:chExt cx="6325560" cy="459720"/>
          </a:xfrm>
        </p:grpSpPr>
        <p:sp>
          <p:nvSpPr>
            <p:cNvPr id="303" name=""/>
            <p:cNvSpPr/>
            <p:nvPr/>
          </p:nvSpPr>
          <p:spPr>
            <a:xfrm>
              <a:off x="1591920" y="5450040"/>
              <a:ext cx="63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istance is             ft, or about 353.6 f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5"/>
            <a:stretch/>
          </p:blipFill>
          <p:spPr>
            <a:xfrm>
              <a:off x="3801960" y="5477040"/>
              <a:ext cx="923760" cy="36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19320"/>
            <a:ext cx="8229600" cy="5029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number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67000" y="3871800"/>
            <a:ext cx="3485880" cy="39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00120" cy="390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14680" y="4648320"/>
            <a:ext cx="2400120" cy="39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8360" y="5334120"/>
            <a:ext cx="24001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619280"/>
            <a:ext cx="565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softball diamond is a square with sides of 60 feet. How long is a throw from third base to first base in softball? Give the answer as a radical expression in simplest form. Then estimate the length to the nearest tenth of a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770800">
            <a:off x="6857640" y="1905120"/>
            <a:ext cx="152388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26668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781800">
            <a:off x="8123040" y="3157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23120" y="4343400"/>
            <a:ext cx="211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8534520" y="289512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848720" y="35812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316560" y="2838960"/>
            <a:ext cx="1103400" cy="1101960"/>
            <a:chOff x="6316560" y="2838960"/>
            <a:chExt cx="1103400" cy="1101960"/>
          </a:xfrm>
        </p:grpSpPr>
        <p:sp>
          <p:nvSpPr>
            <p:cNvPr id="314" name=""/>
            <p:cNvSpPr/>
            <p:nvPr/>
          </p:nvSpPr>
          <p:spPr>
            <a:xfrm rot="2988600">
              <a:off x="6644880" y="3190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6316560" y="2838960"/>
              <a:ext cx="380520" cy="39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74000" y="3593880"/>
              <a:ext cx="345960" cy="34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457200" y="472428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istance from one corner of the square to the opposite one is the hypotenuse of a right triangle. Use the Pythagorean Theorem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182880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242680" y="1944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42320" y="263052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60 for a and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44480" y="3544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41960" y="48402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7,200 using perfect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400480" cy="609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752480" y="3505320"/>
            <a:ext cx="2638440" cy="4572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1752480" y="4267080"/>
            <a:ext cx="141948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1828800" y="4952880"/>
            <a:ext cx="2486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241960" y="184464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the 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44480" y="30160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41960" y="428292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Use a calculator and round 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568520" y="2057400"/>
            <a:ext cx="2333520" cy="399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038320" cy="476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600200" y="3648240"/>
            <a:ext cx="1085760" cy="390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1600200" y="4591080"/>
            <a:ext cx="990720" cy="28584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1362600" y="5486400"/>
            <a:ext cx="5729760" cy="459720"/>
            <a:chOff x="1362600" y="5486400"/>
            <a:chExt cx="5729760" cy="459720"/>
          </a:xfrm>
        </p:grpSpPr>
        <p:sp>
          <p:nvSpPr>
            <p:cNvPr id="337" name=""/>
            <p:cNvSpPr/>
            <p:nvPr/>
          </p:nvSpPr>
          <p:spPr>
            <a:xfrm>
              <a:off x="1362600" y="5486400"/>
              <a:ext cx="57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istance is          , or about 84.9 f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5"/>
            <a:stretch/>
          </p:blipFill>
          <p:spPr>
            <a:xfrm>
              <a:off x="3578040" y="5526000"/>
              <a:ext cx="743040" cy="36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30320" y="155592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9640" y="20574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11120" y="2057400"/>
            <a:ext cx="1143000" cy="399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825480" y="26668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311120" y="2666880"/>
            <a:ext cx="2267280" cy="457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62120" y="3352680"/>
            <a:ext cx="79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. All variables represent nonnegativ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7040" y="44290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295280" y="4457880"/>
            <a:ext cx="628920" cy="399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00640" y="44290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685800" cy="819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62120" y="54100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895320" cy="457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365720" y="54244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4905360" y="5219640"/>
            <a:ext cx="1038240" cy="876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697480" y="2057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2160" y="266688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5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2209680" y="4452840"/>
            <a:ext cx="609840" cy="3906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5896080" y="4191120"/>
            <a:ext cx="657000" cy="799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2495520" y="5467320"/>
            <a:ext cx="1162080" cy="399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6248520" y="5262480"/>
            <a:ext cx="914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523880"/>
            <a:ext cx="5334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Two archaeologists leave from the same campsite. One travels 10 miles due north and the other travels 6 miles due west. How far apart are the archaeologists? Give the answer as a radical expression in simplest form. Then estimate the distance to the nearest tenth of a m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295280" y="5486400"/>
            <a:ext cx="2485440" cy="459720"/>
            <a:chOff x="1295280" y="5486400"/>
            <a:chExt cx="2485440" cy="459720"/>
          </a:xfrm>
        </p:grpSpPr>
        <p:sp>
          <p:nvSpPr>
            <p:cNvPr id="363" name=""/>
            <p:cNvSpPr/>
            <p:nvPr/>
          </p:nvSpPr>
          <p:spPr>
            <a:xfrm>
              <a:off x="2106360" y="548640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i; 11.7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1295280" y="5497200"/>
              <a:ext cx="809640" cy="40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048360" y="1847880"/>
            <a:ext cx="30193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133720"/>
            <a:ext cx="80773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y radical expre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47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590920"/>
            <a:ext cx="7696440" cy="1295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cal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c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52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817560" y="1143000"/>
            <a:ext cx="7864560" cy="1922760"/>
            <a:chOff x="817560" y="1143000"/>
            <a:chExt cx="7864560" cy="1922760"/>
          </a:xfrm>
        </p:grpSpPr>
        <p:sp>
          <p:nvSpPr>
            <p:cNvPr id="70" name=""/>
            <p:cNvSpPr/>
            <p:nvPr/>
          </p:nvSpPr>
          <p:spPr>
            <a:xfrm>
              <a:off x="817560" y="1143000"/>
              <a:ext cx="7864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n expression that contains a radical sign           is a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  <a:ea typeface="Arial"/>
                </a:rPr>
                <a:t>radical expressio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 There are many different types of radical expressions, but in this course, you will only study radical expressions that contain square roo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7386840" y="1187640"/>
              <a:ext cx="8953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1032840" y="3124080"/>
            <a:ext cx="48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xamples of radical ex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6640" y="4572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expression under a radical sign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adic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 A radicand may contain numbers, variables, or both. It may contain one term or more than one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3629160"/>
            <a:ext cx="6162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2271600"/>
            <a:ext cx="8686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79640" y="3884760"/>
            <a:ext cx="1444680" cy="480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207648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member that positive numbers have tw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quare roots, one positive and one negative. However,     indicates a nonnegative squ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oot. When you simplify, be sure that y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swer is not negative. To simplify      you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hould write               because you do n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know wheth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is positive or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08400" y="2859120"/>
            <a:ext cx="388800" cy="38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302520" y="3583080"/>
            <a:ext cx="5904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Simplifying Square-Root Expres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0800" y="178452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25320" y="2590920"/>
            <a:ext cx="733680" cy="81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6320" y="3657600"/>
            <a:ext cx="1714320" cy="1647720"/>
            <a:chOff x="76320" y="3657600"/>
            <a:chExt cx="1714320" cy="164772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6320" y="3657600"/>
              <a:ext cx="17143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838080" y="4572000"/>
              <a:ext cx="533520" cy="73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1828800" y="2514600"/>
            <a:ext cx="0" cy="289548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48080" y="2666880"/>
            <a:ext cx="157140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96560" y="262260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05120" y="3429000"/>
            <a:ext cx="3362040" cy="1752480"/>
            <a:chOff x="1905120" y="3429000"/>
            <a:chExt cx="3362040" cy="17524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905120" y="3429000"/>
              <a:ext cx="33620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6"/>
            <a:stretch/>
          </p:blipFill>
          <p:spPr>
            <a:xfrm>
              <a:off x="3462480" y="4172040"/>
              <a:ext cx="11142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7"/>
            <a:stretch/>
          </p:blipFill>
          <p:spPr>
            <a:xfrm>
              <a:off x="3510000" y="4905360"/>
              <a:ext cx="6667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102240" y="25909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8800" y="2438280"/>
            <a:ext cx="0" cy="297180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5943600" y="2666880"/>
            <a:ext cx="203832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55800" y="26384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410080" y="3429000"/>
            <a:ext cx="3667320" cy="1171440"/>
            <a:chOff x="5410080" y="3429000"/>
            <a:chExt cx="3667320" cy="1171440"/>
          </a:xfrm>
        </p:grpSpPr>
        <p:pic>
          <p:nvPicPr>
            <p:cNvPr id="98" name="" descr=""/>
            <p:cNvPicPr/>
            <p:nvPr/>
          </p:nvPicPr>
          <p:blipFill>
            <a:blip r:embed="rId9"/>
            <a:stretch/>
          </p:blipFill>
          <p:spPr>
            <a:xfrm>
              <a:off x="5410080" y="3429000"/>
              <a:ext cx="3667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tretch/>
          </p:blipFill>
          <p:spPr>
            <a:xfrm>
              <a:off x="7467480" y="4248000"/>
              <a:ext cx="1257480" cy="3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6:46:11Z</dcterms:modified>
  <cp:revision>266</cp:revision>
  <dc:subject/>
  <dc:title>Slide 1</dc:title>
</cp:coreProperties>
</file>